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1AA-7228-4C8E-AC17-4096F9D2502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7D4-34B9-46E0-8DFF-512904D3C62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3E1-B92D-4956-BE9F-D4CDF3136BD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364-355C-4E7F-94A9-55B3531DF40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5E1-30F5-42CD-8CDA-742CA4453F8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FF2-2A31-42ED-9A97-9A02B91CE95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75E-C1AE-42D8-8241-85C884FED3A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6948-6A34-43AA-951C-F0C53477418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F6FB-102A-45A1-B7C1-738600B1AC9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0DD-F875-4F05-97E1-DEB1065159C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6CB4-D26D-4252-AB80-B9B66F7C2ED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A67-7229-4E35-A8EC-92DDB70EBD9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1DD7-D92B-4D89-BB6E-64C6CBF75A2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2C9-FEC2-4AAF-9700-AF034151878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670-91DA-4581-82BC-7848AE413FC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9B3-C60E-4814-B1E8-1CB397E5BA7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D7CE-E400-487E-89E8-59126E83E8A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F26-4143-416E-B373-CA255C87540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F56-5114-4479-9337-6A1777D1063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4A8-0B8D-4609-8D0D-4DF4D0060C8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3FC-1C3C-4A06-923E-050F65C91F0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9B2-7269-4846-A2E3-BFA1B7A1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9A1-8135-4084-AA94-B321A2A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393-B72F-4C07-ADD5-2A31CF8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3A6-16B3-487C-AD16-D4338D8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1F6-1A81-447F-80BD-BCC8AA5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827-68F7-4A48-A9AA-009B13D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C0A-155D-4F35-B3FB-A8F54BC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8E1-ACE3-4A4A-8B59-E9A4701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65E-C172-4713-B593-00B8BAA5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91A-1657-469A-9A07-24C8668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B46-F94F-426C-BCEF-5E4841A8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E43-26D0-40EA-BD1F-16F36B56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470-ADCF-4143-A331-370DF2A289B6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9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3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47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1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6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0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ector de seta reta 14"/>
          <p:cNvCxnSpPr>
            <a:stCxn id="170" idx="0"/>
            <a:endCxn id="171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2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ector de seta reta 22"/>
          <p:cNvCxnSpPr>
            <a:stCxn id="173" idx="0"/>
            <a:endCxn id="175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87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Conector de seta reta 14"/>
          <p:cNvCxnSpPr>
            <a:stCxn id="189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Conector de seta reta 22"/>
          <p:cNvCxnSpPr>
            <a:stCxn id="191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2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ctor de seta reta 14"/>
          <p:cNvCxnSpPr>
            <a:stCxn id="214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de seta reta 22"/>
          <p:cNvCxnSpPr>
            <a:stCxn id="216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Conector de seta reta 20"/>
          <p:cNvCxnSpPr>
            <a:stCxn id="214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Conector de seta reta 23"/>
          <p:cNvCxnSpPr>
            <a:stCxn id="214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Conector de seta reta 26"/>
          <p:cNvCxnSpPr>
            <a:stCxn id="214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31"/>
          <p:cNvCxnSpPr>
            <a:stCxn id="216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34"/>
          <p:cNvCxnSpPr>
            <a:stCxn id="214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37"/>
          <p:cNvCxnSpPr>
            <a:stCxn id="214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onector de seta reta 14"/>
          <p:cNvCxnSpPr>
            <a:stCxn id="237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ctor de seta reta 22"/>
          <p:cNvCxnSpPr>
            <a:stCxn id="237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ctor de seta reta 20"/>
          <p:cNvCxnSpPr>
            <a:stCxn id="239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ector de seta reta 23"/>
          <p:cNvCxnSpPr>
            <a:stCxn id="237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Conector de seta reta 26"/>
          <p:cNvCxnSpPr>
            <a:stCxn id="237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31"/>
          <p:cNvCxnSpPr>
            <a:stCxn id="237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34"/>
          <p:cNvCxnSpPr>
            <a:stCxn id="239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37"/>
          <p:cNvCxnSpPr>
            <a:stCxn id="237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2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7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2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6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6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</a:t>
            </a: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cabecadeboi.tif” and “cabecadeboi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5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0-08-28T16:58:49Z</dcterms:modified>
  <cp:revision>439</cp:revision>
  <dc:subject/>
  <dc:title>Low-carbon growth in Brazil?</dc:title>
</cp:coreProperties>
</file>